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24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4.jpeg" ContentType="image/jpeg"/>
  <Override PartName="/ppt/media/image15.wmf" ContentType="image/x-wmf"/>
  <Override PartName="/ppt/media/image1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3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DB40C-7934-4481-A436-A42F33696A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7C027-611C-45FC-B64B-CB6B12EDD6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69AF1-11D7-4D8B-9391-48C3BA57E2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F5501-BBA6-43F3-A7B0-18008901B4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21AAE-06EC-4092-854A-D8D603946F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61800" indent="-25560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пресивни тестови се најчешће изводе да би се установило да ли се хормон прекомерно излучује. Пацијенту се даје супстанца која побуђује негативну повратну спрегу и изазива инхибицију лучења хормона. Изостанак супресије указује да је секреција аутономна (није под контролом негативне повратне спрег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5560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имулативним тестовима се испитује недовољно излучивање хормона. Пацијенту се даје тропни хормон, који нормално стимулише излучивање и мери се реакција. Нормалан одговор значи да жлезда није оштећена, изостанак реакције да оштећење постој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78F95-482F-4AE7-A21E-B8CC9ACEEC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61800" indent="-25560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пресивни тестови се најчешће изводе да би се установило да ли се хормон прекомерно излучује. Пацијенту се даје супстанца која побуђује негативну повратну спрегу и изазива инхибицију лучења хормона. Изостанак супресије указује да је секреција аутономна (није под контролом негативне повратне спрег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5560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имулативним тестовима се испитује недовољно излучивање хормона. Пацијенту се даје тропни хормон, који нормално стимулише излучивање и мери се реакција. Нормалан одговор значи да жлезда није оштећена, изостанак реакције да оштећење постој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5ACA1-536A-4479-9BE0-3D6D308B5A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60BD9-AD9F-4F08-84C8-51DF9968F6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8006E-0D6F-4657-AB93-68A5FDAC8F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7080E-FBB5-4B37-A0B3-FC64E558C4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E12AF-C2C9-4B93-A624-79F0B4E48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083A2-35D1-4078-8E6D-A031C1BBDB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23E52-03DB-4068-A6E5-2EE797E6D3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63FC8-9A81-470A-91C4-7947C75440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327AE-21BA-481D-A0F0-FAC237CB0F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15C5D-E842-436E-B501-5CC51505E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E81DD-EF4E-4FC9-9556-9187E74F20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43053-4FEF-4042-9D71-6079BFFB86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E23A4-0923-4AB6-8197-D8E55289A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C1E60-BEAD-4036-9D13-241F4143C7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AF2B5-86B2-4473-820F-9AD2CB1047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SMinionTab-Regular"/>
              </a:rPr>
              <a:t>Штитаста жлезда се развија од вентралног зида фаринкса и расте каудално од базе језика до нивоа крикоидне хрскавице на бази врата, у току првог семестра трудноће. Уски истмус повезује леви и десни лобус и понекад пирамидални лобус у средини, који представља крај тиреоглосалног дукт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54D53-8986-4E4B-81D9-69D838BF49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14736-0EC2-4089-BD77-46FDA585F7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4936B-9E96-494A-BECE-53F2DACBEA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200E3-E628-465D-AB90-C867F689B7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33F96-EBA3-452A-8958-1832022F4E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AE25F-C329-4540-8F92-D315961E3D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D1175-6A0B-44DF-9F04-070274F4CE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84AAF-7024-4E65-988E-0452591390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9480" y="65412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9A4C1-5018-46EF-9B7B-44F54D0EB8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E0AC3-B30E-40D2-B6A2-94E4041BF9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04560" y="4218120"/>
            <a:ext cx="65530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2F28D-0C4C-412E-A663-4F049BB1F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20993-A94F-47B8-8E8F-FB19763D38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BFCB6-2549-4313-85C9-D41AC1190B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510E2-C670-4C51-BF8F-D15AC0484F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28A74-477C-40D8-BC06-A2E2A7E0B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F10E2-A969-4D67-B17F-8B13CD167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C7D21-06EF-4756-9F73-DE4EA18BE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C4415-F509-489E-B190-94310E3E7B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2E6E9-5E5F-4F6A-A5B2-A92FCB4E14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3318-02A0-4A48-999A-B4B6DCB2C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B3E1-CA6D-4E8D-92E9-2C95C4C28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0C1D-39D3-448B-80AA-CB759B85F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820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956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820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956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CE14-C062-4C37-906B-937FB17F5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BD92-6AB3-4E58-8D55-5AACB679AF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68E9-F334-466E-BFFA-FCC806D0A5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74B6-D4B7-489B-8952-7C8025C0C4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66FF-075A-4682-9F89-817FBC5860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5D73-B117-4CCB-954F-6634E1FCE1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F2FD-740D-4C2C-93AB-83C2102F6D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D5EA-A1A3-4751-9FDC-6DA06CCE6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827C-1DB6-43F9-8477-32F228121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7C7E-0AFC-408A-AC5F-1705CC37E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379D-CD15-4538-B0EF-CD8F90F6EA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8AC3-C2F3-4BA7-BCD8-29DE4BEBCC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448B-9C29-451F-84D0-2D437DEC03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820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1956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820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1956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FFAB-454C-4ADA-BED7-9C21B72FFB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1CB-FA96-430A-B8B0-ECDBD6D873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42F-0B84-4E36-96A9-FFBA58C735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B51-2341-437E-A1AF-71C8DCA177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6E5-9981-4125-A14C-6DFA327153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A46-A087-4DAA-8AB8-41CB6C53C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E651-9362-445C-9F3B-36CBC117AB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C6A-3B00-43D2-9DD8-8835DF8CC3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2E5-B994-4BD2-9122-B8B37F0C78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CB9-5F92-4078-869B-FDA627EBA3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C5E-FA65-43F7-840F-8811892691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09B-957B-407D-B853-3240FBF9AD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33D-540F-492F-B4C6-492FD182D8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20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1956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20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1956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AE0-7B39-4B1F-B757-DC2AAD45E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09AA-4D7D-422E-809E-89220B891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312E-CF62-4855-BCE1-C3A122E5B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5B06-2E5C-4DD1-8081-0D70A07A3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3C1C-D01D-4246-92C8-1F6CC608A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60E2-85A5-49EE-98A6-80D77E593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C685-6D7C-47C2-B88F-EBDA2C8BF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2600" y="5784840"/>
            <a:ext cx="3411360" cy="1089000"/>
            <a:chOff x="-12600" y="5784840"/>
            <a:chExt cx="3411360" cy="108900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136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77920" y="6421320"/>
              <a:ext cx="1697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360"/>
            <a:ext cx="363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EBC4F-D142-4C9A-B773-B7191369B1B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-3240" y="4952880"/>
            <a:ext cx="9144000" cy="1908360"/>
            <a:chOff x="-3240" y="4952880"/>
            <a:chExt cx="9144000" cy="1908360"/>
          </a:xfrm>
        </p:grpSpPr>
        <p:sp>
          <p:nvSpPr>
            <p:cNvPr id="49" name="AutoShape 3"/>
            <p:cNvSpPr/>
            <p:nvPr/>
          </p:nvSpPr>
          <p:spPr>
            <a:xfrm>
              <a:off x="1693800" y="4952880"/>
              <a:ext cx="7440840" cy="482760"/>
            </a:xfrm>
            <a:custGeom>
              <a:avLst/>
              <a:gdLst>
                <a:gd name="textAreaLeft" fmla="*/ 0 w 7440840"/>
                <a:gd name="textAreaRight" fmla="*/ 7441200 w 74408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46080" y="5235480"/>
              <a:ext cx="9090000" cy="782640"/>
            </a:xfrm>
            <a:custGeom>
              <a:avLst/>
              <a:gdLst>
                <a:gd name="textAreaLeft" fmla="*/ 0 w 9090000"/>
                <a:gd name="textAreaRight" fmla="*/ 9090360 w 909000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3240" y="4992840"/>
              <a:ext cx="9137520" cy="1868400"/>
              <a:chOff x="3240" y="4992840"/>
              <a:chExt cx="9137520" cy="1868400"/>
            </a:xfrm>
          </p:grpSpPr>
          <p:pic>
            <p:nvPicPr>
              <p:cNvPr id="5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4992840"/>
                <a:ext cx="9137520" cy="186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7"/>
              <p:cNvSpPr/>
              <p:nvPr/>
            </p:nvSpPr>
            <p:spPr>
              <a:xfrm>
                <a:off x="936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54" name="Picture 8" descr=""/>
            <p:cNvPicPr/>
            <p:nvPr/>
          </p:nvPicPr>
          <p:blipFill>
            <a:blip r:embed="rId3"/>
            <a:stretch/>
          </p:blipFill>
          <p:spPr>
            <a:xfrm>
              <a:off x="-3240" y="4986360"/>
              <a:ext cx="9144000" cy="81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360"/>
            <a:ext cx="363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A69D8-091C-4AE7-A08B-53355A9F910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-12600" y="5784840"/>
            <a:ext cx="3411360" cy="1089000"/>
            <a:chOff x="-12600" y="5784840"/>
            <a:chExt cx="3411360" cy="1089000"/>
          </a:xfrm>
        </p:grpSpPr>
        <p:pic>
          <p:nvPicPr>
            <p:cNvPr id="99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136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277920" y="6421320"/>
              <a:ext cx="1697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92710-D59C-4A3D-8B9E-81EEAA7E313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1560" y="98100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464646"/>
                </a:solidFill>
                <a:latin typeface="Lucida Sans Unicode"/>
              </a:rPr>
              <a:t>Нуклеарна ендокринологија</a:t>
            </a:r>
            <a:endParaRPr b="1" lang="en-US" sz="5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орфолошка и функционална испитивања штитасте жлез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1481040"/>
            <a:ext cx="82296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Нормалне вредности теста фиксаци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8-20% после 3 сата и 20-45% после 24 с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На смањење фиксације радиоактивног јода у штитастој жлезди утич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Јодирани лекови (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exoral, Mexaform, Amiodaro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Јодиране контрастне матер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иреоидни хормо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Lucida Sans Unicode"/>
              </a:rPr>
              <a:t>Тиреосупреси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тероидни хормо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трумогене намирнице (купус, кељ, репа, сој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itle 5"/>
          <p:cNvSpPr/>
          <p:nvPr/>
        </p:nvSpPr>
        <p:spPr>
          <a:xfrm>
            <a:off x="468360" y="260280"/>
            <a:ext cx="8226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Штитаста жлезда</a:t>
            </a:r>
            <a:br>
              <a:rPr sz="3700"/>
            </a:b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Функционална </a:t>
            </a:r>
            <a:r>
              <a:rPr b="1" i="1" lang="sr-Latn-RS" sz="3700" spc="-1" strike="noStrike">
                <a:solidFill>
                  <a:srgbClr val="464646"/>
                </a:solidFill>
                <a:latin typeface="Lucida Sans Unicode"/>
              </a:rPr>
              <a:t>in vivo </a:t>
            </a: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испитивањ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77" name="Content Placeholder 3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30720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70000" indent="-2700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Microsoft YaHei"/>
              </a:rPr>
              <a:t>Манифестни општи и локални знаци инфекције постоје код 70% болесник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Microsoft YaHei"/>
              </a:rPr>
              <a:t>Остали су са сасвим благим сметњама или без симптом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Microsoft YaHei"/>
              </a:rPr>
              <a:t>Опоравак 95% после 6 недељ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84360" y="23976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5910120" y="3933720"/>
            <a:ext cx="32338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324000" y="571680"/>
            <a:ext cx="864396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ff9900"/>
                </a:solidFill>
                <a:latin typeface="Lucida Sans Unicode"/>
              </a:rPr>
              <a:t>2.</a:t>
            </a:r>
            <a:r>
              <a:rPr b="0" lang="sr-CS" sz="1700" spc="-1" strike="noStrike">
                <a:solidFill>
                  <a:srgbClr val="404040"/>
                </a:solidFill>
                <a:latin typeface="Lucida Sans Unicode"/>
              </a:rPr>
              <a:t> </a:t>
            </a:r>
            <a:r>
              <a:rPr b="0" i="1" lang="ru-RU" sz="1700" spc="-1" strike="noStrike">
                <a:solidFill>
                  <a:srgbClr val="404040"/>
                </a:solidFill>
                <a:latin typeface="Lucida Sans Unicode"/>
              </a:rPr>
              <a:t>Супресивни тестови се најчешће изводе да би се установило да ли се хормон прекомерно излучује. Пацијенту се даје супстанца која побуђује негативну повратну спрегу и изазива инхибицију лучења хормона. Изостанак супресије указује да је секреција аутономна (није под контролом негативне повратне спреге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Lucida Sans Unicode"/>
              </a:rPr>
              <a:t>СУПРЕСИОНИ (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rnerov)</a:t>
            </a:r>
            <a:r>
              <a:rPr b="1" lang="sr-CS" sz="2000" spc="-1" strike="noStrike">
                <a:solidFill>
                  <a:srgbClr val="000000"/>
                </a:solidFill>
                <a:latin typeface="Lucida Sans Unicode"/>
              </a:rPr>
              <a:t> ТЕСТ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за потврђивање дијагнозе хипертиреозе,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ravesove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болести и аутономног, токсичног аденома, ако се поред хиперфункцијског нодуса приказује и преостало ткиво жлезд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Урадити тест фиксације радиојода, потом 7 дана пацијент узима супресивне дозе Т3 или 14 дана Т4 300 мцг, понови се тест фиксације радиој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2808360" cy="28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2882880" cy="28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Стимулативним тестовима се испитује недовољно излучивање хормона. Пацијенту се даје тропни хормон, који нормално стимулише излучивање и мери се реакција. Нормалан одговор значи да жлезда није оштећена, изостанак реакције да оштећење постој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Lucida Sans Unicode"/>
              </a:rPr>
              <a:t>СТИМУЛАЦИОНИ ТЕСТ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за диференцијалну дијагнозу примарне и секундарне хипотиреозе (тест фиксације-рхТСХ-тест фиксације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испитивање да ли су сцинтиграфски нефункционални делови жлезде, функционо способни (Урадити сцинтиграм дати пацијенту рхТСХ и поновити сцинтиграфију штитасте жлезде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468360" y="1628640"/>
            <a:ext cx="8472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ff9900"/>
                </a:solidFill>
                <a:latin typeface="Lucida Sans Unicode"/>
              </a:rPr>
              <a:t>4.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 Т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H 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Т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за откривање субклиничке хипотиреозе и потврђивање хипертиреоз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базалне вредности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.v. 200 mcg TR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Узимање серума за одређивање TSH након 20 и 60 мин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700"/>
            </a:b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Штитаста жлезда</a:t>
            </a:r>
            <a:br>
              <a:rPr sz="3700"/>
            </a:b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Функционална </a:t>
            </a:r>
            <a:r>
              <a:rPr b="1" i="1" lang="sr-Latn-RS" sz="3700" spc="-1" strike="noStrike">
                <a:solidFill>
                  <a:srgbClr val="464646"/>
                </a:solidFill>
                <a:latin typeface="Lucida Sans Unicode"/>
              </a:rPr>
              <a:t>in vivo </a:t>
            </a: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испитивања</a:t>
            </a:r>
            <a:br>
              <a:rPr sz="3700"/>
            </a:b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457200" y="1481040"/>
            <a:ext cx="82296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Када је базална вредност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нормална или повишена, а после 30 мин. повишена у односу на базалне вредности у питању је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Ако је базална вредност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на доњој граници или снижена, уз смањене или ниско нормалне вредности тиреоидних хормона и после 30 мин. не долази до њеног пораста у питању је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Када је базална вредност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ниска уз нормалне повишене концентрације тиреоидних хормона, а и после 30 мин. остаје ниска у питању је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4100" spc="-1" strike="noStrike">
                <a:solidFill>
                  <a:srgbClr val="464646"/>
                </a:solidFill>
                <a:latin typeface="Lucida Sans Unicode"/>
              </a:rPr>
              <a:t>TRH</a:t>
            </a:r>
            <a:r>
              <a:rPr b="1" lang="sr-RS" sz="4100" spc="-1" strike="noStrike">
                <a:solidFill>
                  <a:srgbClr val="464646"/>
                </a:solidFill>
                <a:latin typeface="Lucida Sans Unicode"/>
              </a:rPr>
              <a:t> тест</a:t>
            </a:r>
            <a:r>
              <a:rPr b="1" lang="sr-Latn-RS" sz="4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64646"/>
                </a:solidFill>
                <a:latin typeface="Lucida Sans Unicode"/>
              </a:rPr>
              <a:t>ИСПИТИВАЊЕ ОРГАНСКОГ ВЕЗИВАЊА ЈОДИДА (перхлоратски тест) 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481040"/>
            <a:ext cx="82263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33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 дијагностици конгениталних струма и Hashimoto тиреоидити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6033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Принцип: перхлорат (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l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се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везује у ШЖ на месту где се везује јон јодид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6033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Пероксидаза је неопходна за оксидацију јодида у јод, који се затим уграђује у тирозинске остатке Тг, потребна је за спајање МЈТ и ДЈТ, спајање 2 ДЈ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6033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Када нема пероксидазе јодид улази у цитоплазму али се не везује за тирозин, тако да се истискује након давања перхлората (aнјон ClO4 истискује анјон J–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603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79280" y="981000"/>
            <a:ext cx="8640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ацијент попије капсулу радиојода,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змери се вредност фиксације након 1 ча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ацијенту се апликује 0,5 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перхлората 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i.v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 или 1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per os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ери се фиксација на 5 минута током првих 30 минута , потом на 15 минута до истека 2 сата од давања перхлора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ад фиксације већи од 5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4284720" y="3860640"/>
            <a:ext cx="2808360" cy="257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1187280" y="3860640"/>
            <a:ext cx="2775240" cy="2575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4100" spc="-1" strike="noStrike">
                <a:solidFill>
                  <a:srgbClr val="464646"/>
                </a:solidFill>
                <a:latin typeface="Lucida Sans Unicode"/>
              </a:rPr>
              <a:t>Перхлоратски тест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219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Штитаста жлезд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6040" y="1450440"/>
            <a:ext cx="814716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119"/>
              </a:buClr>
              <a:buSzPct val="68000"/>
              <a:buFont typeface="Palatino Linotyp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Штитаста жлезда је смештена с предње стране врата испред трахеје, једина видљива и лако доступна палпацији ендокрина жлезд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119"/>
              </a:buClr>
              <a:buSzPct val="68000"/>
              <a:buFont typeface="Palatino Linotyp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Код одраслих, просечна тежина је око 20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307188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200" spc="-1" strike="noStrike">
                <a:solidFill>
                  <a:srgbClr val="464646"/>
                </a:solidFill>
                <a:latin typeface="Lucida Sans Unicode"/>
              </a:rPr>
              <a:t>Морфофункционална испитивања штитасте жлезде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000" y="1483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494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Char char="•"/>
              <a:tabLst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Lucida Sans Unicode"/>
              </a:rPr>
              <a:t>Сцинтиграфија штитасте жлезде (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татичка / Динамичка, перфузиона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Индикације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1. нодозна струма (унинодусна или полинодозна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2. тиреоидни карцином (у дијагностици и лечењу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3. припрема болесника за хируршку интервенцију и процена након операције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4. хипертиреоза (дијагностика и лечење), диференцијална дијагноза хипертироидног стања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5. хипотиреоза (дијагностика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6. дијагностика ретростерналне струме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7. дијагностика ектопичне штитасте жлезде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Lucida Sans Unicode"/>
              </a:rPr>
              <a:t>Афункциони и хиперфункциони нод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2160720" cy="216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cxnSp>
        <p:nvCxnSpPr>
          <p:cNvPr id="200" name="Straight Arrow Connector 7"/>
          <p:cNvCxnSpPr/>
          <p:nvPr/>
        </p:nvCxnSpPr>
        <p:spPr>
          <a:xfrm flipH="1">
            <a:off x="2555280" y="3284280"/>
            <a:ext cx="864360" cy="649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5076720" y="2781360"/>
            <a:ext cx="2171880" cy="201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cxnSp>
        <p:nvCxnSpPr>
          <p:cNvPr id="202" name="Straight Arrow Connector 10"/>
          <p:cNvCxnSpPr/>
          <p:nvPr/>
        </p:nvCxnSpPr>
        <p:spPr>
          <a:xfrm flipV="1">
            <a:off x="4716000" y="4076280"/>
            <a:ext cx="801000" cy="56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214720" cy="2124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459480" y="2004840"/>
            <a:ext cx="2217960" cy="214344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06" name="Picture 4" descr=""/>
          <p:cNvPicPr/>
          <p:nvPr/>
        </p:nvPicPr>
        <p:blipFill>
          <a:blip r:embed="rId4"/>
          <a:stretch/>
        </p:blipFill>
        <p:spPr>
          <a:xfrm>
            <a:off x="3641760" y="2004840"/>
            <a:ext cx="2305080" cy="20764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07" name="Picture 1" descr=""/>
          <p:cNvPicPr/>
          <p:nvPr/>
        </p:nvPicPr>
        <p:blipFill>
          <a:blip r:embed="rId5"/>
          <a:stretch/>
        </p:blipFill>
        <p:spPr>
          <a:xfrm>
            <a:off x="3571920" y="4581360"/>
            <a:ext cx="1627200" cy="17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-648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705040" cy="22096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5286240" y="4143240"/>
            <a:ext cx="2428920" cy="242892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11" name="Picture 4" descr=""/>
          <p:cNvPicPr/>
          <p:nvPr/>
        </p:nvPicPr>
        <p:blipFill>
          <a:blip r:embed="rId4"/>
          <a:stretch/>
        </p:blipFill>
        <p:spPr>
          <a:xfrm>
            <a:off x="5286240" y="1571760"/>
            <a:ext cx="2419560" cy="2286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12" name="Picture 5" descr=""/>
          <p:cNvPicPr/>
          <p:nvPr/>
        </p:nvPicPr>
        <p:blipFill>
          <a:blip r:embed="rId5"/>
          <a:stretch/>
        </p:blipFill>
        <p:spPr>
          <a:xfrm>
            <a:off x="2143080" y="4214880"/>
            <a:ext cx="2419560" cy="24192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68310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58840" y="1268280"/>
            <a:ext cx="851544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Нодус је ограничена промена грађе тироидне жлезде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нодус &gt; 10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m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се додатно испитују, могу да буду клинички значајни за тироидни малигнитет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Испитивању нодуса ≤ 10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m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ечника само ако постоји додатни разлог за сумњу на малигнитет (породична или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лична анамнеза тироидног малигнитета, анамнеза зрачења врата, ултразвучне особености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Lucida Sans Unicode"/>
              </a:rPr>
              <a:t>нодуса, придружена лимфаденопатија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31720" y="1890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лтразвучне карактеристике нод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цена лимфних нодуса вр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ерење ТСХ 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цинтиграфија штитасте жлез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утинско мерење тироидних хормона није економски оправда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дређивање калцитонина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1680" y="620640"/>
            <a:ext cx="8929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ироидни чворови и струма су чести, уобичајено се откривају случајно, ултразвучним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регледом врата из других разлог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ко је откривен чвор, када је откривен, да ли је био или је болан, да ли расте, да ли постоје пратећи симптоми и знаци, да ли је особа лечена или се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лечи због промене грађе или функције ШЖ, да ли је у породици било болести ШЖ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даци сугестивни за малигнитет: </a:t>
            </a: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изразито брз раст нодуса и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појава промуклости,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излагање радијацији у детињству и адолесценцији, породична анамнеза канцерских синдрома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ru-RU" sz="2100" spc="-1" strike="noStrike">
                <a:solidFill>
                  <a:srgbClr val="000000"/>
                </a:solidFill>
                <a:latin typeface="Lucida Sans Unicode"/>
              </a:rPr>
              <a:t>Cowden ов синдром, фамилијарна</a:t>
            </a: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ипоза, </a:t>
            </a:r>
            <a:r>
              <a:rPr b="0" i="1" lang="ru-RU" sz="2100" spc="-1" strike="noStrike">
                <a:solidFill>
                  <a:srgbClr val="000000"/>
                </a:solidFill>
                <a:latin typeface="Lucida Sans Unicode"/>
              </a:rPr>
              <a:t>Carney јев комплекс, мултипла ендокрина неоплазија),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95280" y="461880"/>
            <a:ext cx="82296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ерење ТСХ у серуму је почетни поступак у оцени функције нодозне струме. Уколико се добије снижена вредност ТСХ, урадити сцинтиграфију штитасте жлезд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утинско мерење тироидних хормона није економски оправдано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лцитонин у серуму може да открије хиперплазију Ц ћелија или медуларни карцином у ранијем стадијуму и опште преживљавање може да буде продужен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ко су вредности калцитонина умерено повишене, треба урадити калцијумски тест (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.v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2,5 mg калцијума 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kg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ТТ у брзој инфузији, калцитонин одредити 0, 3, 5, и 10 минута по инфузији). Вредности од ≥500 ng/ml калцитонина у серуму после стимулације калцијумом оправдавају оперативно одстрањивање штитасте жлез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лтразвучне особености сугестивне за злоћудну природу нодуса су: хипоехогеност, неправилна ивица, одсуство засенчења око ивице нодуса, микрокалцификације, интранодозна хиперваскуларност и регионална лимфаденопатиј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лтразвук је веома важан у оцени лимфних нодуса врата. Физикални налаз сумњиве аденопатије врата оправдава УЗ преглед лимфних нодуса и штитасте жлезде због значајне могућности локалних метастаза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непрепознатог папиларног тироидног карцином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68360" y="260280"/>
            <a:ext cx="5256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Ectopic Thyroid in the Anterior Mediastinum Resected Through a  Video-Assisted Transcervical Approach: Case Report | CTSNet"/>
          <p:cNvPicPr/>
          <p:nvPr/>
        </p:nvPicPr>
        <p:blipFill>
          <a:blip r:embed="rId1"/>
          <a:srcRect l="26397" t="7251" r="20844" b="9362"/>
          <a:stretch/>
        </p:blipFill>
        <p:spPr>
          <a:xfrm>
            <a:off x="5940360" y="1484280"/>
            <a:ext cx="2890800" cy="3218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1" name="Rectangle 3"/>
          <p:cNvSpPr/>
          <p:nvPr/>
        </p:nvSpPr>
        <p:spPr>
          <a:xfrm>
            <a:off x="468360" y="620640"/>
            <a:ext cx="50403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Ембрионални развој штитасте жлезде је веома компликован, што отвара могућности за настанак аномалиј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Агенез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Хипоплаз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Ектопично положена: </a:t>
            </a:r>
            <a:r>
              <a:rPr b="0" lang="en-US" sz="1800" spc="-1" strike="noStrike">
                <a:solidFill>
                  <a:srgbClr val="231f20"/>
                </a:solidFill>
                <a:latin typeface="SMinionTab-Regular"/>
              </a:rPr>
              <a:t>(суб)л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ингвална, супра и инфрахиоидна, медијастинал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uctus thyreoglos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Анатомска варијација облика -пирамидални режа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24000" y="9810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Ако се пункцијом нодуса добије бенигни цитопатолошки налаз а клинички нема компресивних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метњи, пацијент се прати клиничким и ултразвучним контрола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ао малигни, најчешће се добија налаз папиларне неоплазме, знатно ређе налаз медуларног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ироидног карцинома, анапластичног карцинома, лимфома или метастазе другог тумора у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штитасту жлез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27468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диофреквентна термална аблација за смањење већих тироидних нодуса представља подручје од све већег интереса. Поступак је заснован на апликацији таласа високе фреквенце и обавља се у локалној анестезији или значајној сед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кутана ласер аблација вођена ултразвуком је много безбеднији и једноставнији поступ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ва интервенција се обавља у локалној анестезији и потврђена је њена сигурност и клиничка употребљивост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Lucida Sans Unicode"/>
                <a:ea typeface="Arial"/>
              </a:rPr>
              <a:t>Бенигн</a:t>
            </a:r>
            <a:r>
              <a:rPr b="1" lang="sr-Latn-CS" sz="1700" spc="-1" strike="noStrike">
                <a:solidFill>
                  <a:srgbClr val="ff3300"/>
                </a:solidFill>
                <a:latin typeface="Lucida Sans Unicode"/>
                <a:ea typeface="Arial"/>
              </a:rPr>
              <a:t>и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ликуларни а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еном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Lucida Sans Unicode"/>
                <a:ea typeface="Arial"/>
              </a:rPr>
              <a:t>Малигн</a:t>
            </a:r>
            <a:r>
              <a:rPr b="1" lang="sr-Latn-CS" sz="1700" spc="-1" strike="noStrike">
                <a:solidFill>
                  <a:srgbClr val="ff3300"/>
                </a:solidFill>
                <a:latin typeface="Lucida Sans Unicode"/>
                <a:ea typeface="Arial"/>
              </a:rPr>
              <a:t>и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Порекла фоликуларних ћелиј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бро диферентовани (Папилар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и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Фоли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лар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и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Лоше диферентовани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диферентовани (анапластични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Порекла Ц-ћелиј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дулар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и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Примарног неп</a:t>
            </a:r>
            <a:r>
              <a:rPr b="0" lang="en-U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и</a:t>
            </a: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телног порекл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Л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м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, саркоми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Секундарни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691920"/>
            <a:ext cx="40370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апиларни карцин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јчешћи малигни тумори (70%), 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чешћи код жена (30-40год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тастазе у ЛГЛ, ређе кости, мозак и плућ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лична прогноз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же се дијагностиковати путем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NAB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опходна тиреидектомиј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6520" y="691920"/>
            <a:ext cx="40370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ликуларни карцин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15-25% од свих малигних неоплазми тиреоидеј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бично код старијих од 40 го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рши инвазију капсуле тумор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рши инвазију крвних судов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тас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зира у плућа и кост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4360" y="444600"/>
            <a:ext cx="38685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Медуларни карцин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4360" y="1472760"/>
            <a:ext cx="3868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рекла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ћелија (парафоликуларних ћелија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ЕТ Он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ге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уморски маркер је </a:t>
            </a:r>
            <a:r>
              <a:rPr b="1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алцитони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следни случајеви се јављају заједно са феохромоцитом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417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Анапластични карцин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716360" y="1473120"/>
            <a:ext cx="38880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арије жен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Брз и смртоноса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214200" y="1643040"/>
            <a:ext cx="86439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зарање преосталог “нормалног” тироидног тки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зар</a:t>
            </a:r>
            <a:r>
              <a:rPr b="0" lang="sr-R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ње преосталих канцерогених ћел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дентификација удаљених метаст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ксимализација сензитивности и специфичности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серум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ког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т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глобулин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1160" cy="1187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2743200" y="6297480"/>
            <a:ext cx="6400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zzaferri EL, et al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J Clin Endocrinol Metab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2001;86:1447-146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hen EG, et al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Otolaryngol Clin North A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2003;36:129-157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067440" y="5638680"/>
            <a:ext cx="31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hole Body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scintigraf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G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Ant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iTG 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181040" y="4083120"/>
            <a:ext cx="235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Супресиона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71080" y="1568520"/>
            <a:ext cx="32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Тотал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тиреоидектом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043600" y="5334120"/>
            <a:ext cx="140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Tahoma"/>
              </a:rPr>
              <a:t>1 </a:t>
            </a:r>
            <a:r>
              <a:rPr b="0" lang="sr-Latn-CS" sz="2000" spc="-1" strike="noStrike">
                <a:solidFill>
                  <a:srgbClr val="464646"/>
                </a:solidFill>
                <a:latin typeface="Tahoma"/>
              </a:rPr>
              <a:t>godiš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661480" y="2724120"/>
            <a:ext cx="174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РА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абл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7"/>
          <p:cNvSpPr/>
          <p:nvPr/>
        </p:nvSpPr>
        <p:spPr>
          <a:xfrm rot="7740000">
            <a:off x="6107400" y="4825080"/>
            <a:ext cx="470160" cy="725760"/>
          </a:xfrm>
          <a:prstGeom prst="upArrow">
            <a:avLst>
              <a:gd name="adj1" fmla="val 50000"/>
              <a:gd name="adj2" fmla="val 3859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8"/>
          <p:cNvSpPr/>
          <p:nvPr/>
        </p:nvSpPr>
        <p:spPr>
          <a:xfrm rot="7740000">
            <a:off x="4013280" y="352944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9"/>
          <p:cNvSpPr/>
          <p:nvPr/>
        </p:nvSpPr>
        <p:spPr>
          <a:xfrm rot="7740000">
            <a:off x="2602080" y="246276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0" y="5942160"/>
            <a:ext cx="6324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Cohen EG, et al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Otolaryngol Clin North Am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3;36:129-157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Mazzaferri EL, et al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J Clin Endocrinol Metab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3;88:1433-1441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Sherman SI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Lancet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3;361:501-511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Mazzaferri EL, et al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J Clin Endocrinol Metab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1;86:1447-1463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Mazzaferri EL, et al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Endocr Relat Cancer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2;9(4):227-247.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600" spc="-1" strike="noStrike">
                <a:solidFill>
                  <a:srgbClr val="464646"/>
                </a:solidFill>
                <a:latin typeface="Lucida Sans Unicode"/>
              </a:rPr>
              <a:t>Терапијски приступ тиреоидним карциномим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357120" y="1916280"/>
            <a:ext cx="828684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концентрације укупног тироксина и укупног тријодтиронина у серум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концентрације слободног тироксина и слободног тријодтирон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концентрације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у серу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t Tg-Ab, At Mc-Ab, At-TSH receptorska 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концентрације тиреоглобулина у серу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26960" y="109440"/>
            <a:ext cx="860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0" y="1214280"/>
            <a:ext cx="88581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рвенствен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ражав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величин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жлезд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С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вак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физичк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штеће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жлезд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иопс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перац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запаље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штеће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адиојод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тимулац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С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ецептор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вешћ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раст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румско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Преоперативне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вредности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серум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немај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дијагнозн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и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имај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ограничен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прогнозн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вредност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вишен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ив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специфичан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знак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ног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неопластичн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оидн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олес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к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ки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иферентовани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оидни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арциномим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ог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ћ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ормал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вреднос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јвећ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значај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ређивањ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румско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иво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стоперативн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раћењ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ацијенат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перисан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иферентован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арцином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штитасте жлезд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53880" y="122400"/>
            <a:ext cx="847260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74680" y="857160"/>
            <a:ext cx="859464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нтитиреоглобулинска антитела (</a:t>
            </a:r>
            <a:r>
              <a:rPr b="1" lang="vi-VN" sz="1700" spc="-1" strike="noStrike">
                <a:solidFill>
                  <a:srgbClr val="000000"/>
                </a:solidFill>
                <a:latin typeface="Lucida Sans Unicode"/>
              </a:rPr>
              <a:t>TgAb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vi-VN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-највећи део метаболизма Тг се одвија унутар тиреоцита, известан број неразграђених молекула Тг доспева у лимфоток потом у циркулацију. Титар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TgAb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је повишен код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 65-95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ацијената са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Hashimoto tireoiditisom, 60-90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а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Gravesovom bolešću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ролазно и у мањем степену код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50-75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код пацијената са субакутним тиреоидитисом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умерено повишен код струме, малигнитета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али и код 1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6%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 нормалне популације &gt;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65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година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нтитела према тиреоидној пероксидази (</a:t>
            </a:r>
            <a:r>
              <a:rPr b="1" lang="vi-VN" sz="1700" spc="-1" strike="noStrike">
                <a:solidFill>
                  <a:srgbClr val="000000"/>
                </a:solidFill>
                <a:latin typeface="Lucida Sans Unicode"/>
              </a:rPr>
              <a:t>TPOAb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овишене вредности код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90-100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ацијената са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Hashimoto tireoiditisom, 75-100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а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 Gravesovom bolešću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ролазно и мањем степену код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55-70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а субакутним тиреоидитисом , у мањем проценту код пацијената са другим деструктивним и запаљенским болестима штитасте жлезде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br>
              <a:rPr sz="1700"/>
            </a:b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2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Синтеза тиреоидних хормон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25000"/>
            <a:ext cx="8586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Јодинација тирозинских остатака тиреоглобулин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активан транспорт јодидног анјона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преко </a:t>
            </a: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Na/I </a:t>
            </a: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котранспортера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(NIS)</a:t>
            </a: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, локализованог на базолатералној мембрани тиреоцита, насупрот електрохемијског и градијента концентрације, уз знатан утрошак енергиј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Преко апикалне мембране јодид се премешта у колоид. Оксидација јодида у јод и органификација јода у тирозинске остатке тиреоглобулина се дешава на луминалној површини апикалне мембран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други анјони (перхлорат, пертехнетат и тиоцијанат) могу компетитивно инхибирати транспорт јодида у тиреоцит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Транспорт је двоструко регулисан : 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TSH 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и концентрација јодид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66772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"/>
          <p:cNvSpPr/>
          <p:nvPr/>
        </p:nvSpPr>
        <p:spPr>
          <a:xfrm>
            <a:off x="457200" y="1143000"/>
            <a:ext cx="84009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Sans Unicode"/>
              </a:rPr>
              <a:t>TRAB 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ј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нтител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SH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ецептор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ређу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адиорецепторски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ест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којим се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казу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стоја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нтител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SH рецептор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естир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рав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мисл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"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оид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тимулац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"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ј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ож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тврди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нтител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тимулишућа и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локирајућ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више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Gravesov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олес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ендокри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еутиреоид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фталмопати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стовремено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стојањ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Gravesove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Plummer-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в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олес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раћење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иво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RAB-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ацијенат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еосупресивној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ерапиј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ож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каза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"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иолошк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емис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"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гативизациј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RAB-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ацијенат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ј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ржав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више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нцентрац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RAB-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ок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еосупресив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терапије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зглед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лазак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рајниј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емисиј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а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реб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азмотри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адикалн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лече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Lucida Sans Unicode"/>
              </a:rPr>
              <a:t>је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клинички синдром појачане функције штитасте жлезде</a:t>
            </a:r>
            <a:r>
              <a:rPr b="0" lang="sr-CS" sz="2000" spc="-1" strike="noStrike">
                <a:solidFill>
                  <a:srgbClr val="ffffff"/>
                </a:solidFill>
                <a:latin typeface="Lucida Sans Unicode"/>
              </a:rPr>
              <a:t> код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raves-Basedow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болести,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ashimoto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тиреоидитиса у транзиторној хипертиреози, аутоимуног токсичног аденома у декомпензованој фази, токсичне нодозне струм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Медикаментозна (тиреостатици уз бета блокаторе и седативе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Хируршка (уз претходно медикаментозно увођење пацијента у ремисиј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Радиоактивним јод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Lucida Sans Unicode"/>
              </a:rPr>
              <a:t>ХИПЕРТИРЕОЗА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862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ринцип деловања </a:t>
            </a:r>
            <a:r>
              <a:rPr b="0" lang="sr-CS" sz="2400" spc="-1" strike="noStrike" baseline="30000">
                <a:solidFill>
                  <a:srgbClr val="000000"/>
                </a:solidFill>
                <a:latin typeface="Lucida Sans Unicode"/>
              </a:rPr>
              <a:t>131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Органификација у тиреоцити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Lucida Sans Unicode"/>
              </a:rPr>
              <a:t>β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 честице домета до 2.5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m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 делују на тиреоците, а њихова енергија апсорбована у ткиву штитасте жлезде доводи до едема, пикнозе, крварења и некрозе тиреоцита, што временом доводи до фиброзе. Једном започет, фиброзни процес напредује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 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48104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Контраиндика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Гравидитет и лактација су апсолутне контраиндика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Релативн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Не испод 18 година живота, (изузетак су особе код којих је ово једини могући вид лечењ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кад постоји сцинтиграфски афункциони ноду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Код доказаних малигних тумо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Изражена офталмопат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</a:t>
            </a:r>
            <a:r>
              <a:rPr b="1" lang="sr-CS" sz="27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Шта је неопходно урадити пре апликације терапијске дозе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Детаљна анамнез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ест фиксације </a:t>
            </a:r>
            <a:r>
              <a:rPr b="0" lang="sr-CS" sz="2000" spc="-1" strike="noStrike" baseline="30000">
                <a:solidFill>
                  <a:srgbClr val="000000"/>
                </a:solidFill>
                <a:latin typeface="Lucida Sans Unicode"/>
              </a:rPr>
              <a:t>131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цинтиграфија и УЗ штитасте жлезд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вредности 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3, 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4,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SH,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антитиреоидних антите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Комплетна крвна слика, број тромбоци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бустава тиреосупресива пре примене терапијске дозе јод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Детаљно обавестити пацијента и ако пристане следи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 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480680"/>
            <a:ext cx="850752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Lucida Sans Unicode"/>
              </a:rPr>
              <a:t>..</a:t>
            </a:r>
            <a:r>
              <a:rPr b="0" lang="sr-C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sr-CS" sz="2700" spc="-1" strike="noStrike">
                <a:solidFill>
                  <a:srgbClr val="ffffff"/>
                </a:solidFill>
                <a:latin typeface="Lucida Sans Unicode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ИЗРАЧУНАВАЊЕ ДОЗЕ за лечење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Graves-Basedow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болести и токсичне нодозне струме с функцијским чвором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Метод фиксне дозе по Вернеру (од 110-185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Bq). 60%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пацијената за три до четири месеца улазе у еутиреоидно стање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Метод по граму ткива штитасте жлезде: доза (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Bq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тежина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*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број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Bq*100/24h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фиксација(%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Обично се даје 2-4.5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Bq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по граму ткива жлезде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 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Терапијска доза се апликуј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er os</a:t>
            </a: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, наште, а сат времена после апликације пацијент не треба да узима храну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У првих 6 недеља пацијент може бити више хиперметаболичан него пре терапије, што подразумева по потреби укључивање допунске медикаментозне терапије (бета блокатори, који спречавају периферну конверзију Т4 у Т3, седативи, који делују симптоматски и тиреостатици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Најмање три месеца после прве, може се апликовати и друга терапијска доза радиојода, уколико жељени ефекат није постигну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Хипотиреоза се јавља после 12 месеци у само 8% пацијената који су након радиојодне добили и тиреостатску терапију а и до 36% пацијената код којих радиојодна није била праћена тиреостатском терапијом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</a:t>
            </a:r>
            <a:r>
              <a:rPr b="1" lang="sr-CS" sz="27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</a:t>
            </a:r>
            <a:r>
              <a:rPr b="1" lang="sr-CS" sz="27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560" y="9367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1900" spc="-1" strike="noStrike">
                <a:solidFill>
                  <a:srgbClr val="c00000"/>
                </a:solidFill>
                <a:latin typeface="Lucida Sans Unicode"/>
              </a:rPr>
              <a:t>КОМПЛИКАЦИЈ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Ране: Најопаснија је могућност настајања тиреотоксичне кризе (фебрилност, измењено стање свести, тахикардија, презнојавање, дијареја), која захтева хоспитализацију и адекватну терапију (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Na-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јодид који акутно блокира ослобађање синтетисаних хормона, </a:t>
            </a:r>
            <a:r>
              <a:rPr b="0" lang="el-GR" sz="2200" spc="-1" strike="noStrike">
                <a:solidFill>
                  <a:srgbClr val="000000"/>
                </a:solidFill>
                <a:latin typeface="Lucida Sans Unicode"/>
              </a:rPr>
              <a:t>β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блокатори да блокирају конверзију на периферији и тиреостатици, надокнада течности и кортикостероиди). Радијациони тиреоидитис настаје ређе и мање је опасна рана компликациј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Касне-Хипотиреоз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Друга фаза у синтези тироидних хормона је оксидација јодида у јод, који се уграђује у тирозинске остатке тиреоглобулина, уз присуство тироидне пероксидазе. Јодотирозини (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MIT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DIT)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немају физиолошко деловање, прекурсори су тироидних хормона. Спајањем молекула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MIT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DIT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настаје Т3, а спајањем два молекула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DIT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Т4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Формирање Т3 или Т4, зависи од количине јодида, али и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TSH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тимулације. Одсуство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TSH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мањује јодинацију тиреоглобулина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мањен унос јодида повећава однос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MIT/DIT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T3/T4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72132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Wolff-Chaikoff ефекат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480680"/>
            <a:ext cx="822636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Lucida Sans Unicode"/>
              </a:rPr>
              <a:t>Акутно давање јодида доводи до смањене количине органски везаног јода. Пад органског јода при повећаном уносу неорганског зове се </a:t>
            </a:r>
            <a:r>
              <a:rPr b="0" lang="sr-Latn-RS" sz="2100" spc="-1" strike="noStrike">
                <a:solidFill>
                  <a:srgbClr val="000000"/>
                </a:solidFill>
                <a:latin typeface="Lucida Sans Unicode"/>
              </a:rPr>
              <a:t>Wolff-Chaikoff </a:t>
            </a:r>
            <a:r>
              <a:rPr b="0" lang="sr-RS" sz="2100" spc="-1" strike="noStrike">
                <a:solidFill>
                  <a:srgbClr val="000000"/>
                </a:solidFill>
                <a:latin typeface="Lucida Sans Unicode"/>
              </a:rPr>
              <a:t>ефекат. Могуће објашњење је да висок ниво јодида инхибише тироидном пероксидазом катализовану јодинацију. ПТУ и метимазол на овај начин смањују синтезу тиреодних хормона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Lucida Sans Unicode"/>
              </a:rPr>
              <a:t>Wolff i Chaikoff </a:t>
            </a:r>
            <a:r>
              <a:rPr b="0" lang="sr-RS" sz="2100" spc="-1" strike="noStrike">
                <a:solidFill>
                  <a:srgbClr val="000000"/>
                </a:solidFill>
                <a:latin typeface="Lucida Sans Unicode"/>
              </a:rPr>
              <a:t>су 1948. године објавили да је органско везивање јодида у ШЖ пацова било блокирано када је ниво јодида у плазми достигао критично висок праг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060560" y="298440"/>
            <a:ext cx="7559640" cy="976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71360" y="1457280"/>
            <a:ext cx="755820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ТЕСТ ФИКСАЦИЈЕ радиоактивног ј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СУПРЕСИОНИ Т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 СТИМУЛАЦИОНИ Т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H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Т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ИСПИТИВАЊЕ ОРГАНСКОГ ВЕЗИВАЊА ЈОДИДА (перхлоратски т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Штитаста жлезда</a:t>
            </a:r>
            <a:br>
              <a:rPr sz="3700"/>
            </a:b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Функционална </a:t>
            </a:r>
            <a:r>
              <a:rPr b="1" i="1" lang="sr-Latn-RS" sz="3700" spc="-1" strike="noStrike">
                <a:solidFill>
                  <a:srgbClr val="464646"/>
                </a:solidFill>
                <a:latin typeface="Lucida Sans Unicode"/>
              </a:rPr>
              <a:t>in vivo </a:t>
            </a: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испитивања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1481040"/>
            <a:ext cx="83628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ЕСТ ФИКСАЦИЈЕ радиоактивног јода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131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е заснива на одређивању процента везивања дијагностичке дозе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131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у штитастој жлез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Индикаци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умња на субакутни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 Quervaine)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иреоидит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Лечење хипертиреозе радиоактивним јо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У првој постоперативној контроли болесника с диферентованим карциномом тиреоидеје којима је урађена тотална тиреоидектом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12400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Штитаста жлезда</a:t>
            </a:r>
            <a:br>
              <a:rPr sz="1800"/>
            </a:b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Функционална </a:t>
            </a:r>
            <a:r>
              <a:rPr b="0" i="1" lang="sr-Latn-RS" sz="1800" spc="-1" strike="noStrike">
                <a:solidFill>
                  <a:srgbClr val="ffffff"/>
                </a:solidFill>
                <a:latin typeface="Tahoma"/>
              </a:rPr>
              <a:t>in vivo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испитив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4:48:18Z</dcterms:created>
  <dc:creator>Info</dc:creator>
  <dc:description/>
  <dc:language>en-US</dc:language>
  <cp:lastModifiedBy>Vladimir Vukomanovic</cp:lastModifiedBy>
  <dcterms:modified xsi:type="dcterms:W3CDTF">2023-10-21T13:02:46Z</dcterms:modified>
  <cp:revision>112</cp:revision>
  <dc:subject/>
  <dc:title>НУКЛЕАРНА ЕНДОКРИНОЛОГИЈ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